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_rels/notesSlide6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1144440" y="685440"/>
            <a:ext cx="456912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move the slide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ko-KR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46AF6-02CD-4531-8EDC-6AD9200FE60A}" type="slidenum">
              <a:rPr b="0" lang="ko-KR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60B263-E2FC-4ADC-94DB-A9434BF6CCB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17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6E0187-550E-4E40-BD48-03803F559E7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EAC1D9-0D27-44AD-8437-8B4E366C39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3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06EB69-D11A-4E22-9DED-6C3EC78223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7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28A361-B60A-410B-A9B8-88722AFAEAE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29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Rectangle 7"/>
          <p:cNvSpPr/>
          <p:nvPr/>
        </p:nvSpPr>
        <p:spPr>
          <a:xfrm>
            <a:off x="388620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2A64EF-B998-4170-8E04-D0C10471DA2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1"/>
          <p:cNvSpPr>
            <a:spLocks noGrp="1"/>
          </p:cNvSpPr>
          <p:nvPr>
            <p:ph type="sldImg"/>
          </p:nvPr>
        </p:nvSpPr>
        <p:spPr>
          <a:xfrm>
            <a:off x="1144440" y="685800"/>
            <a:ext cx="4569120" cy="3429000"/>
          </a:xfrm>
          <a:prstGeom prst="rect">
            <a:avLst/>
          </a:prstGeom>
          <a:ln w="0">
            <a:noFill/>
          </a:ln>
        </p:spPr>
      </p:sp>
      <p:sp>
        <p:nvSpPr>
          <p:cNvPr id="53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9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5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6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00924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5637600" y="1294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52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00924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5637600" y="3445920"/>
            <a:ext cx="25030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subTitle"/>
          </p:nvPr>
        </p:nvSpPr>
        <p:spPr>
          <a:xfrm>
            <a:off x="304920" y="151920"/>
            <a:ext cx="777384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51"/>
              </a:spcBef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364280" y="3445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8052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364280" y="1294920"/>
            <a:ext cx="379368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80520" y="3445920"/>
            <a:ext cx="7774200" cy="19641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5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5" descr="pp back _ black V3_26th"/>
          <p:cNvPicPr/>
          <p:nvPr/>
        </p:nvPicPr>
        <p:blipFill>
          <a:blip r:embed="rId2"/>
          <a:stretch/>
        </p:blipFill>
        <p:spPr>
          <a:xfrm>
            <a:off x="39600" y="30240"/>
            <a:ext cx="9105840" cy="68292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7" name="Picture 13" descr="pp back _kevs black V3 strip_26th"/>
          <p:cNvPicPr/>
          <p:nvPr/>
        </p:nvPicPr>
        <p:blipFill>
          <a:blip r:embed="rId2"/>
          <a:stretch/>
        </p:blipFill>
        <p:spPr>
          <a:xfrm>
            <a:off x="0" y="6340320"/>
            <a:ext cx="9145440" cy="546120"/>
          </a:xfrm>
          <a:prstGeom prst="rect">
            <a:avLst/>
          </a:prstGeom>
          <a:ln w="0">
            <a:noFill/>
          </a:ln>
        </p:spPr>
      </p:pic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0" name="Line 5"/>
          <p:cNvSpPr/>
          <p:nvPr/>
        </p:nvSpPr>
        <p:spPr>
          <a:xfrm>
            <a:off x="304920" y="762120"/>
            <a:ext cx="8535960" cy="0"/>
          </a:xfrm>
          <a:prstGeom prst="line">
            <a:avLst/>
          </a:prstGeom>
          <a:ln w="6480">
            <a:solidFill>
              <a:srgbClr val="62708c">
                <a:alpha val="43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1" name="Picture 11" descr="BBC-Blocks"/>
          <p:cNvPicPr/>
          <p:nvPr/>
        </p:nvPicPr>
        <p:blipFill>
          <a:blip r:embed="rId3"/>
          <a:stretch/>
        </p:blipFill>
        <p:spPr>
          <a:xfrm>
            <a:off x="8359920" y="653400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42" name="Text Box 12"/>
          <p:cNvSpPr/>
          <p:nvPr/>
        </p:nvSpPr>
        <p:spPr>
          <a:xfrm>
            <a:off x="0" y="6578640"/>
            <a:ext cx="9145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0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0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000" spc="-1" strike="noStrike">
                <a:solidFill>
                  <a:srgbClr val="ffffff"/>
                </a:solidFill>
                <a:latin typeface="Arial"/>
                <a:ea typeface="Arial"/>
              </a:rPr>
              <a:t>Samsung Electronics Co. Ltd. and British Broadcasting Corporation, 2010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3" descr="08"/>
          <p:cNvPicPr/>
          <p:nvPr/>
        </p:nvPicPr>
        <p:blipFill>
          <a:blip r:embed="rId4"/>
          <a:stretch/>
        </p:blipFill>
        <p:spPr>
          <a:xfrm>
            <a:off x="214200" y="6431040"/>
            <a:ext cx="884520" cy="3538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11" descr="pp back _ black V3_26th_title"/>
          <p:cNvPicPr/>
          <p:nvPr/>
        </p:nvPicPr>
        <p:blipFill>
          <a:blip r:embed="rId2"/>
          <a:stretch/>
        </p:blipFill>
        <p:spPr>
          <a:xfrm>
            <a:off x="19080" y="14400"/>
            <a:ext cx="9105840" cy="6829200"/>
          </a:xfrm>
          <a:prstGeom prst="rect">
            <a:avLst/>
          </a:prstGeom>
          <a:ln w="0">
            <a:noFill/>
          </a:ln>
        </p:spPr>
      </p:pic>
      <p:sp>
        <p:nvSpPr>
          <p:cNvPr id="81" name="Rectangle 9"/>
          <p:cNvSpPr/>
          <p:nvPr/>
        </p:nvSpPr>
        <p:spPr>
          <a:xfrm>
            <a:off x="0" y="6438960"/>
            <a:ext cx="9145440" cy="420480"/>
          </a:xfrm>
          <a:prstGeom prst="rect">
            <a:avLst/>
          </a:prstGeom>
          <a:solidFill>
            <a:srgbClr val="000000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1360" rIns="81360" tIns="40680" bIns="40680" anchor="t">
            <a:noAutofit/>
          </a:bodyPr>
          <a:p>
            <a:pPr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Rectangle 10"/>
          <p:cNvSpPr/>
          <p:nvPr/>
        </p:nvSpPr>
        <p:spPr>
          <a:xfrm>
            <a:off x="841320" y="3887640"/>
            <a:ext cx="73080" cy="444600"/>
          </a:xfrm>
          <a:prstGeom prst="rect">
            <a:avLst/>
          </a:prstGeom>
          <a:solidFill>
            <a:srgbClr val="ffffff">
              <a:alpha val="3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8"/>
          <p:cNvSpPr/>
          <p:nvPr/>
        </p:nvSpPr>
        <p:spPr>
          <a:xfrm>
            <a:off x="801720" y="6510240"/>
            <a:ext cx="463536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16280" rIns="116280" tIns="57960" bIns="5796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GB" sz="1500" spc="-1" strike="noStrike">
                <a:solidFill>
                  <a:srgbClr val="ffffff"/>
                </a:solidFill>
                <a:latin typeface="Gill Sans"/>
              </a:rPr>
              <a:t>R&amp;D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9" descr="BBC-Blocks"/>
          <p:cNvPicPr/>
          <p:nvPr/>
        </p:nvPicPr>
        <p:blipFill>
          <a:blip r:embed="rId3"/>
          <a:stretch/>
        </p:blipFill>
        <p:spPr>
          <a:xfrm>
            <a:off x="193680" y="6583320"/>
            <a:ext cx="660240" cy="189000"/>
          </a:xfrm>
          <a:prstGeom prst="rect">
            <a:avLst/>
          </a:prstGeom>
          <a:ln w="0">
            <a:noFill/>
          </a:ln>
        </p:spPr>
      </p:pic>
      <p:sp>
        <p:nvSpPr>
          <p:cNvPr id="85" name="Text Box 10"/>
          <p:cNvSpPr/>
          <p:nvPr/>
        </p:nvSpPr>
        <p:spPr>
          <a:xfrm>
            <a:off x="7402680" y="6540480"/>
            <a:ext cx="1742760" cy="22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spcBef>
                <a:spcPts val="938"/>
              </a:spcBef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ko-KR" sz="1500" spc="-1" strike="noStrike">
                <a:solidFill>
                  <a:srgbClr val="ffffff"/>
                </a:solidFill>
                <a:latin typeface="Symbol"/>
                <a:ea typeface="Symbol"/>
              </a:rPr>
              <a:t></a:t>
            </a:r>
            <a:r>
              <a:rPr b="0" lang="ko-KR" sz="1500" spc="-1" strike="noStrike">
                <a:solidFill>
                  <a:srgbClr val="ffffff"/>
                </a:solidFill>
                <a:latin typeface="Arial"/>
                <a:ea typeface="Arial"/>
              </a:rPr>
              <a:t> </a:t>
            </a:r>
            <a:r>
              <a:rPr b="0" lang="en-GB" sz="1500" spc="-1" strike="noStrike">
                <a:solidFill>
                  <a:srgbClr val="ffffff"/>
                </a:solidFill>
                <a:latin typeface="Arial"/>
                <a:ea typeface="Arial"/>
              </a:rPr>
              <a:t>BBC MMI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77738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1" lang="en-US" sz="2000" spc="-1" strike="noStrike">
                <a:solidFill>
                  <a:srgbClr val="62708c"/>
                </a:solidFill>
                <a:latin typeface="Arial"/>
              </a:rPr>
              <a:t>Click to edit the title text format</a:t>
            </a:r>
            <a:endParaRPr b="1" lang="en-US" sz="20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380520" y="1294920"/>
            <a:ext cx="7774200" cy="411804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3" marL="1420920" indent="-20160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4" marL="1828800" indent="-203040">
              <a:spcBef>
                <a:spcPts val="451"/>
              </a:spcBef>
              <a:buClr>
                <a:srgbClr val="62708c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5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6" marL="1828800" indent="-203040">
              <a:spcBef>
                <a:spcPts val="451"/>
              </a:spcBef>
              <a:buClr>
                <a:srgbClr val="000000"/>
              </a:buClr>
              <a:buFont typeface="Arial"/>
              <a:buChar char="»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80808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1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32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LCU vs. Sub-CU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ll CUs are handled through TComDataCU* pointer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rom the LCU (largest CU), Sub-CU is processed recursively by z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1765440" y="2639880"/>
            <a:ext cx="1441440" cy="14432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3205080" y="263988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925800" y="2641680"/>
            <a:ext cx="720720" cy="71892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3205080" y="3360600"/>
            <a:ext cx="7225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3925800" y="3360600"/>
            <a:ext cx="7207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176688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2127240" y="40813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176688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2127240" y="44416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486160" y="4079880"/>
            <a:ext cx="7189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76688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127240" y="48020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176688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127240" y="5162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2486160" y="4802040"/>
            <a:ext cx="718920" cy="7178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3206880" y="4081320"/>
            <a:ext cx="1438200" cy="14385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2273040" y="220824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5080320" y="227808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 flipH="1">
            <a:off x="4644720" y="249552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5080320" y="4151160"/>
            <a:ext cx="2640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 flipH="1">
            <a:off x="4644720" y="4368960"/>
            <a:ext cx="43164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273400" y="5591160"/>
            <a:ext cx="1904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Processing ord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2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156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ComDataCU class has all information we need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Actual data storage is allocated only at LCU (largest CU) level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2" marL="1015920" indent="-203040">
              <a:spcBef>
                <a:spcPts val="451"/>
              </a:spcBef>
              <a:buClr>
                <a:srgbClr val="62708c"/>
              </a:buClr>
              <a:buFont typeface="Arial"/>
              <a:buChar char="•"/>
              <a:tabLst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ub-CUs, data storage points to suitable position in LCU storage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17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212580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17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12580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248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84472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248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284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7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212580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17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12580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248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284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48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84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320508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6544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20508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56544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3924360" y="278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4284720" y="278280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392436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4284720" y="314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20508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544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20508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56544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92436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4284720" y="350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392436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4284720" y="386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17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212580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17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21258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48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84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248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84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17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21258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7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21258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48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84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248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284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320508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356544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320508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356544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92436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4284720" y="4222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3924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428472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320508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356544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320508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56544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3924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428472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924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428472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271240" y="234936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716360" y="2781360"/>
            <a:ext cx="216000" cy="360360"/>
          </a:xfrm>
          <a:custGeom>
            <a:avLst/>
            <a:gdLst>
              <a:gd name="textAreaLeft" fmla="*/ 0 w 216000"/>
              <a:gd name="textAreaRight" fmla="*/ 78120 w 216000"/>
              <a:gd name="textAreaTop" fmla="*/ 9360 h 360360"/>
              <a:gd name="textAreaBottom" fmla="*/ 351000 h 360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4934160" y="278136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4934880" y="220500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 flipH="1">
            <a:off x="4500360" y="2422440"/>
            <a:ext cx="43164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3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Every information in CU is accessed by index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Basically, every index is the storage unit number within the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In source-code, AbsPartIdx means absolute index in the given 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692360" y="263700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132000" y="263700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>
            <a:off x="3852720" y="263844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3132000" y="3357720"/>
            <a:ext cx="7225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3852720" y="335772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169380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2054160" y="4078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169380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4160" y="4438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413080" y="4076640"/>
            <a:ext cx="71892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169380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2054160" y="4799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169380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4160" y="5159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413080" y="4799160"/>
            <a:ext cx="71892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2199960" y="220500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2485440" y="5587920"/>
            <a:ext cx="1372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Index in 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313200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349236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313200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385128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4211640" y="40734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385128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4211640" y="44337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13200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349236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313200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349236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385128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4211640" y="47941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3851280" y="51544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4211640" y="5154480"/>
            <a:ext cx="360360" cy="3603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3132000" y="4075200"/>
            <a:ext cx="144000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5009400" y="371628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 flipH="1">
            <a:off x="4573440" y="3933720"/>
            <a:ext cx="432000" cy="3589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5002920" y="4214880"/>
            <a:ext cx="295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</a:t>
            </a:r>
            <a:r>
              <a:rPr b="0" sz="1400" spc="-1" strike="noStrike">
                <a:solidFill>
                  <a:srgbClr val="000000"/>
                </a:solidFill>
                <a:latin typeface="Courier New"/>
                <a:ea typeface="Gulim"/>
              </a:rPr>
              <a:t>getPredictionMod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(0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5007960" y="5518080"/>
            <a:ext cx="2324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Basic unit for storag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 flipH="1" flipV="1">
            <a:off x="4573440" y="5373720"/>
            <a:ext cx="432000" cy="288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3492360" y="429408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4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269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obtain absolute index in LCU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Each TComDataCU class has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uiAbsIdxInLCU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which means the absolute z-scan index in LCU basi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169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205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169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205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24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277344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24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277344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169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205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169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205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24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277344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24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277344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313380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349416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313380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349416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385272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4213080" y="29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385272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213080" y="32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313380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349416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313380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349416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85272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4213080" y="36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385272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4213080" y="40086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169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205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169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205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24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277344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24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77344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169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205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169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05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24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277344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24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277344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313380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349416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313380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49416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385272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4213080" y="4367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385272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4213080" y="4727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313380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349416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313380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349416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"/>
          <p:cNvSpPr/>
          <p:nvPr/>
        </p:nvSpPr>
        <p:spPr>
          <a:xfrm>
            <a:off x="385272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4213080" y="5087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385272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4213080" y="5448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2199960" y="249408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3133800" y="4365720"/>
            <a:ext cx="1439640" cy="1439640"/>
          </a:xfrm>
          <a:prstGeom prst="rect">
            <a:avLst/>
          </a:prstGeom>
          <a:noFill/>
          <a:ln w="3816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5009400" y="407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 flipH="1">
            <a:off x="4573440" y="4295880"/>
            <a:ext cx="432000" cy="3585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5004000" y="4654440"/>
            <a:ext cx="2421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m_uiAbsIdxInLC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3492360" y="4734000"/>
            <a:ext cx="1513080" cy="384120"/>
          </a:xfrm>
          <a:custGeom>
            <a:avLst/>
            <a:gdLst/>
            <a:ahLst/>
            <a:rect l="l" t="t" r="r" b="b"/>
            <a:pathLst>
              <a:path w="953" h="242">
                <a:moveTo>
                  <a:pt x="953" y="91"/>
                </a:moveTo>
                <a:cubicBezTo>
                  <a:pt x="737" y="166"/>
                  <a:pt x="522" y="242"/>
                  <a:pt x="363" y="227"/>
                </a:cubicBezTo>
                <a:cubicBezTo>
                  <a:pt x="204" y="212"/>
                  <a:pt x="102" y="106"/>
                  <a:pt x="0" y="0"/>
                </a:cubicBezTo>
              </a:path>
            </a:pathLst>
          </a:custGeom>
          <a:noFill/>
          <a:ln w="19080">
            <a:solidFill>
              <a:srgbClr val="ff3300"/>
            </a:solidFill>
            <a:prstDash val="sys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5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341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How to convert between z-scan and raster scan in LCU-based index?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Two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ZscanToRaster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z-scan index ] = raster 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sz="1800" spc="-1" strike="noStrike">
                <a:solidFill>
                  <a:srgbClr val="404040"/>
                </a:solidFill>
                <a:latin typeface="Arial"/>
              </a:rPr>
              <a:t>g_auiRasterToZscan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[ raster index ] = z-scan index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Raster scan is useful to derive index of neighbouring CUs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2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z-sca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55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586908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55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586908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622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658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622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658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55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586908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55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586908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622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658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622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658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694836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730872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694836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730872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766764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8028000" y="32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766764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8028000" y="35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694836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730872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694836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730872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766764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028000" y="39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766764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8028000" y="4295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55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586908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55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586908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622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658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622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658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55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586908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586908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622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658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622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658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94836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730872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694836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730872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766764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8028000" y="46544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66764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8028000" y="50148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694836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730872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694836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730872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766764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028000" y="5375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766764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8028000" y="5735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>
            <a:off x="5508720" y="2781360"/>
            <a:ext cx="287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, rast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3924360" y="407844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>
            <a:off x="3924360" y="5229360"/>
            <a:ext cx="143964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>
            <a:off x="3840480" y="371808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ZscanToRaster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3840480" y="4870440"/>
            <a:ext cx="1599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_auiRasterToZsc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>
            <a:off x="75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111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75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>
            <a:off x="111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14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183528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4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183528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75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11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75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111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4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183528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14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83528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9564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255600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219564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"/>
          <p:cNvSpPr/>
          <p:nvPr/>
        </p:nvSpPr>
        <p:spPr>
          <a:xfrm>
            <a:off x="255600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"/>
          <p:cNvSpPr/>
          <p:nvPr/>
        </p:nvSpPr>
        <p:spPr>
          <a:xfrm>
            <a:off x="291456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3274920" y="321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91456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"/>
          <p:cNvSpPr/>
          <p:nvPr/>
        </p:nvSpPr>
        <p:spPr>
          <a:xfrm>
            <a:off x="3274920" y="357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"/>
          <p:cNvSpPr/>
          <p:nvPr/>
        </p:nvSpPr>
        <p:spPr>
          <a:xfrm>
            <a:off x="219564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55600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"/>
          <p:cNvSpPr/>
          <p:nvPr/>
        </p:nvSpPr>
        <p:spPr>
          <a:xfrm>
            <a:off x="219564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"/>
          <p:cNvSpPr/>
          <p:nvPr/>
        </p:nvSpPr>
        <p:spPr>
          <a:xfrm>
            <a:off x="255600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291456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"/>
          <p:cNvSpPr/>
          <p:nvPr/>
        </p:nvSpPr>
        <p:spPr>
          <a:xfrm>
            <a:off x="3274920" y="393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291456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3274920" y="429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75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111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75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111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"/>
          <p:cNvSpPr/>
          <p:nvPr/>
        </p:nvSpPr>
        <p:spPr>
          <a:xfrm>
            <a:off x="14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"/>
          <p:cNvSpPr/>
          <p:nvPr/>
        </p:nvSpPr>
        <p:spPr>
          <a:xfrm>
            <a:off x="183528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"/>
          <p:cNvSpPr/>
          <p:nvPr/>
        </p:nvSpPr>
        <p:spPr>
          <a:xfrm>
            <a:off x="14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"/>
          <p:cNvSpPr/>
          <p:nvPr/>
        </p:nvSpPr>
        <p:spPr>
          <a:xfrm>
            <a:off x="183528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"/>
          <p:cNvSpPr/>
          <p:nvPr/>
        </p:nvSpPr>
        <p:spPr>
          <a:xfrm>
            <a:off x="75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"/>
          <p:cNvSpPr/>
          <p:nvPr/>
        </p:nvSpPr>
        <p:spPr>
          <a:xfrm>
            <a:off x="111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"/>
          <p:cNvSpPr/>
          <p:nvPr/>
        </p:nvSpPr>
        <p:spPr>
          <a:xfrm>
            <a:off x="75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"/>
          <p:cNvSpPr/>
          <p:nvPr/>
        </p:nvSpPr>
        <p:spPr>
          <a:xfrm>
            <a:off x="111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"/>
          <p:cNvSpPr/>
          <p:nvPr/>
        </p:nvSpPr>
        <p:spPr>
          <a:xfrm>
            <a:off x="14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83528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8" name=""/>
          <p:cNvSpPr/>
          <p:nvPr/>
        </p:nvSpPr>
        <p:spPr>
          <a:xfrm>
            <a:off x="14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"/>
          <p:cNvSpPr/>
          <p:nvPr/>
        </p:nvSpPr>
        <p:spPr>
          <a:xfrm>
            <a:off x="183528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"/>
          <p:cNvSpPr/>
          <p:nvPr/>
        </p:nvSpPr>
        <p:spPr>
          <a:xfrm>
            <a:off x="219564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"/>
          <p:cNvSpPr/>
          <p:nvPr/>
        </p:nvSpPr>
        <p:spPr>
          <a:xfrm>
            <a:off x="255600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"/>
          <p:cNvSpPr/>
          <p:nvPr/>
        </p:nvSpPr>
        <p:spPr>
          <a:xfrm>
            <a:off x="219564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"/>
          <p:cNvSpPr/>
          <p:nvPr/>
        </p:nvSpPr>
        <p:spPr>
          <a:xfrm>
            <a:off x="255600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4" name=""/>
          <p:cNvSpPr/>
          <p:nvPr/>
        </p:nvSpPr>
        <p:spPr>
          <a:xfrm>
            <a:off x="291456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3274920" y="465300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291456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>
            <a:off x="3274920" y="50133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>
            <a:off x="219564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>
            <a:off x="255600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>
            <a:off x="219564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"/>
          <p:cNvSpPr/>
          <p:nvPr/>
        </p:nvSpPr>
        <p:spPr>
          <a:xfrm>
            <a:off x="255600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5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"/>
          <p:cNvSpPr/>
          <p:nvPr/>
        </p:nvSpPr>
        <p:spPr>
          <a:xfrm>
            <a:off x="291456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3274920" y="53737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291456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3274920" y="57340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6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304920" y="151920"/>
            <a:ext cx="8555040" cy="76212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ctr">
            <a:noAutofit/>
          </a:bodyPr>
          <a:p>
            <a:pPr indent="0">
              <a:buNone/>
              <a:tabLst>
                <a:tab algn="l" pos="0"/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800" spc="-1" strike="noStrike">
                <a:solidFill>
                  <a:srgbClr val="2d2d8a"/>
                </a:solidFill>
                <a:latin typeface="Arial"/>
                <a:ea typeface="Gulim"/>
              </a:rPr>
              <a:t>Data structure and access method (6)</a:t>
            </a:r>
            <a:endParaRPr b="1" lang="en-US" sz="2800" spc="-1" strike="noStrike">
              <a:solidFill>
                <a:srgbClr val="62708c"/>
              </a:solidFill>
              <a:latin typeface="Arial"/>
            </a:endParaRPr>
          </a:p>
        </p:txBody>
      </p:sp>
      <p:sp>
        <p:nvSpPr>
          <p:cNvPr id="477" name=""/>
          <p:cNvSpPr txBox="1"/>
          <p:nvPr/>
        </p:nvSpPr>
        <p:spPr>
          <a:xfrm>
            <a:off x="324000" y="980640"/>
            <a:ext cx="8502480" cy="5040360"/>
          </a:xfrm>
          <a:prstGeom prst="rect">
            <a:avLst/>
          </a:prstGeom>
          <a:noFill/>
          <a:ln w="0">
            <a:noFill/>
          </a:ln>
        </p:spPr>
        <p:txBody>
          <a:bodyPr lIns="81360" rIns="81360" tIns="40680" bIns="40680" anchor="t">
            <a:normAutofit/>
          </a:bodyPr>
          <a:p>
            <a:pPr marL="304920" indent="-304920">
              <a:spcBef>
                <a:spcPts val="499"/>
              </a:spcBef>
              <a:buClr>
                <a:srgbClr val="62708c"/>
              </a:buClr>
              <a:buFont typeface="Arial"/>
              <a:buChar char="•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2000" spc="-1" strike="noStrike">
                <a:solidFill>
                  <a:srgbClr val="404040"/>
                </a:solidFill>
                <a:latin typeface="Arial"/>
              </a:rPr>
              <a:t>Transform coefficient data structure</a:t>
            </a:r>
            <a:endParaRPr b="0" lang="en-US" sz="20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1D arrays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Y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,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b and </a:t>
            </a:r>
            <a:r>
              <a:rPr b="0" sz="1800" spc="-1" strike="noStrike">
                <a:solidFill>
                  <a:srgbClr val="404040"/>
                </a:solidFill>
                <a:latin typeface="Arial"/>
              </a:rPr>
              <a:t>m_pcTrCoeff</a:t>
            </a: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Cr are allocated in LCU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  <a:p>
            <a:pPr lvl="1" marL="658800" indent="-250920">
              <a:spcBef>
                <a:spcPts val="451"/>
              </a:spcBef>
              <a:buClr>
                <a:srgbClr val="62708c"/>
              </a:buClr>
              <a:buFont typeface="Arial"/>
              <a:buChar char="–"/>
              <a:tabLst>
                <a:tab algn="l" pos="812880"/>
                <a:tab algn="l" pos="1625760"/>
                <a:tab algn="l" pos="2438280"/>
                <a:tab algn="l" pos="3251160"/>
                <a:tab algn="l" pos="4064040"/>
                <a:tab algn="l" pos="4876920"/>
                <a:tab algn="l" pos="5689440"/>
                <a:tab algn="l" pos="6502320"/>
                <a:tab algn="l" pos="7315200"/>
                <a:tab algn="l" pos="8128080"/>
                <a:tab algn="l" pos="8940960"/>
                <a:tab algn="l" pos="9753480"/>
                <a:tab algn="l" pos="10566360"/>
              </a:tabLst>
            </a:pPr>
            <a:r>
              <a:rPr b="0" lang="en-US" sz="1800" spc="-1" strike="noStrike">
                <a:solidFill>
                  <a:srgbClr val="404040"/>
                </a:solidFill>
                <a:latin typeface="Arial"/>
              </a:rPr>
              <a:t>For each CU, getCoeffY, getCoeffCb and getCoeffCr give the starting point of coefficients. They are arranged using raster-scan</a:t>
            </a:r>
            <a:endParaRPr b="0" lang="en-US" sz="1800" spc="-1" strike="noStrike">
              <a:solidFill>
                <a:srgbClr val="80808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>
            <a:off x="817560" y="3141720"/>
            <a:ext cx="1441440" cy="1442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2257560" y="3141720"/>
            <a:ext cx="722160" cy="722160"/>
          </a:xfrm>
          <a:prstGeom prst="rect">
            <a:avLst/>
          </a:prstGeom>
          <a:solidFill>
            <a:srgbClr val="bbe0e3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2978280" y="3143160"/>
            <a:ext cx="720720" cy="719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2257560" y="3862440"/>
            <a:ext cx="72216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>
            <a:off x="2978280" y="3862440"/>
            <a:ext cx="720720" cy="7221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81900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1179360" y="458316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81900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1179360" y="494352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"/>
          <p:cNvSpPr/>
          <p:nvPr/>
        </p:nvSpPr>
        <p:spPr>
          <a:xfrm>
            <a:off x="1538280" y="4581360"/>
            <a:ext cx="719280" cy="72252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81900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1179360" y="530388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"/>
          <p:cNvSpPr/>
          <p:nvPr/>
        </p:nvSpPr>
        <p:spPr>
          <a:xfrm>
            <a:off x="81900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"/>
          <p:cNvSpPr/>
          <p:nvPr/>
        </p:nvSpPr>
        <p:spPr>
          <a:xfrm>
            <a:off x="1179360" y="5664240"/>
            <a:ext cx="360360" cy="3603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"/>
          <p:cNvSpPr/>
          <p:nvPr/>
        </p:nvSpPr>
        <p:spPr>
          <a:xfrm>
            <a:off x="1538280" y="5303880"/>
            <a:ext cx="719280" cy="7174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1325160" y="2709720"/>
            <a:ext cx="1918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 (e.g. 64x64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2257560" y="4583160"/>
            <a:ext cx="1439640" cy="143676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330280" y="3214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2330280" y="3286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2330280" y="335772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330280" y="343044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2330280" y="3502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330280" y="357336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"/>
          <p:cNvSpPr/>
          <p:nvPr/>
        </p:nvSpPr>
        <p:spPr>
          <a:xfrm>
            <a:off x="2330280" y="36450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2330280" y="371808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2330280" y="3790800"/>
            <a:ext cx="5763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 flipH="1">
            <a:off x="2041560" y="3141720"/>
            <a:ext cx="216000" cy="720720"/>
          </a:xfrm>
          <a:custGeom>
            <a:avLst/>
            <a:gdLst>
              <a:gd name="textAreaLeft" fmla="*/ 360 w 216000"/>
              <a:gd name="textAreaRight" fmla="*/ 78480 w 216000"/>
              <a:gd name="textAreaTop" fmla="*/ 18720 h 720720"/>
              <a:gd name="textAreaBottom" fmla="*/ 7020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cubicBezTo>
                  <a:pt x="54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16200" y="10800"/>
                  <a:pt x="21600" y="10800"/>
                </a:cubicBezTo>
                <a:cubicBezTo>
                  <a:pt x="162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5400" y="21600"/>
                  <a:pt x="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1640520" y="3324240"/>
            <a:ext cx="433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4057560" y="5230800"/>
            <a:ext cx="4319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3927960" y="5302080"/>
            <a:ext cx="4589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LCU, m_pcTrCoeffY (64x64 = 4096 entrie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3988800" y="2638440"/>
            <a:ext cx="3274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Sub-CU: TComDataCU* pcC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2976480" y="2854440"/>
            <a:ext cx="936720" cy="792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 flipV="1" rot="5400000">
            <a:off x="4453560" y="4474080"/>
            <a:ext cx="287280" cy="1079640"/>
          </a:xfrm>
          <a:custGeom>
            <a:avLst/>
            <a:gdLst>
              <a:gd name="textAreaLeft" fmla="*/ 183600 w 287280"/>
              <a:gd name="textAreaRight" fmla="*/ 287640 w 287280"/>
              <a:gd name="textAreaTop" fmla="*/ 28080 h 1079640"/>
              <a:gd name="textAreaBottom" fmla="*/ 1051560 h 10796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 flipV="1" rot="5400000">
            <a:off x="5245920" y="4761720"/>
            <a:ext cx="287280" cy="504720"/>
          </a:xfrm>
          <a:custGeom>
            <a:avLst/>
            <a:gdLst>
              <a:gd name="textAreaLeft" fmla="*/ 183600 w 287280"/>
              <a:gd name="textAreaRight" fmla="*/ 287640 w 287280"/>
              <a:gd name="textAreaTop" fmla="*/ 12960 h 504720"/>
              <a:gd name="textAreaBottom" fmla="*/ 491760 h 50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4056480" y="3070080"/>
            <a:ext cx="19944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Gulim"/>
              </a:rPr>
              <a:t>pcCU-&gt;getCoeffY(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5137200" y="3357720"/>
            <a:ext cx="0" cy="1584000"/>
          </a:xfrm>
          <a:prstGeom prst="line">
            <a:avLst/>
          </a:prstGeom>
          <a:ln cap="rnd" w="19080">
            <a:solidFill>
              <a:srgbClr val="000000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5211360" y="4438800"/>
            <a:ext cx="2190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1162080"/>
                <a:tab algn="l" pos="2324160"/>
                <a:tab algn="l" pos="3486240"/>
                <a:tab algn="l" pos="4648320"/>
                <a:tab algn="l" pos="5810400"/>
                <a:tab algn="l" pos="6972480"/>
                <a:tab algn="l" pos="8134200"/>
                <a:tab algn="l" pos="9296280"/>
                <a:tab algn="l" pos="10458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Gulim"/>
              </a:rPr>
              <a:t>16x16 = 256 entri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12T16:03:12Z</dcterms:created>
  <dc:creator>Rupert Preston Bell</dc:creator>
  <dc:description/>
  <dc:language>en-US</dc:language>
  <cp:lastModifiedBy>한우진</cp:lastModifiedBy>
  <dcterms:modified xsi:type="dcterms:W3CDTF">2010-05-04T04:53:53Z</dcterms:modified>
  <cp:revision>309</cp:revision>
  <dc:subject/>
  <dc:title>Presentation title</dc:title>
</cp:coreProperties>
</file>