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12978"/>
        <c:axId val="84046186"/>
      </c:barChart>
      <c:catAx>
        <c:axId val="53012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46186"/>
        <c:crosses val="autoZero"/>
        <c:auto val="1"/>
        <c:lblAlgn val="ctr"/>
        <c:lblOffset val="100"/>
        <c:noMultiLvlLbl val="0"/>
      </c:catAx>
      <c:valAx>
        <c:axId val="84046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12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816-6C64-452D-816C-BDFB1068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460-9BE7-4047-A3A3-2E8D2DBD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7EC-8904-4C5D-A08D-BDAED6D8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CEE-30F4-460A-9109-1BE99965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011-8E58-4C97-A06C-5C0E0440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410-7374-4E17-BC65-76624F8A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1B4-85A7-43BD-A3C1-53D9FDC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97D-BD70-412C-8B9B-64C8126A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D44-8D9C-49C2-87BF-EB670955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7BD-C023-4776-AA84-627EBEA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922-5823-4C33-B9CA-E02817E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56F-2343-4283-82F0-8946A70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0FFC0-77E3-40F8-9A76-B23C89D25D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