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51889"/>
        <c:axId val="41725649"/>
      </c:barChart>
      <c:catAx>
        <c:axId val="5565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5649"/>
        <c:crosses val="autoZero"/>
        <c:auto val="1"/>
        <c:lblAlgn val="ctr"/>
        <c:lblOffset val="100"/>
        <c:noMultiLvlLbl val="0"/>
      </c:catAx>
      <c:valAx>
        <c:axId val="41725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5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1A8-A136-43E8-985E-B90C885A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F14-CDFC-4A07-8A5B-2C45D87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8A8-C382-4725-B614-E95031F0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4C1-0A5B-4640-ACDB-557D858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C33-9B1E-407B-B2BD-4E05B10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A39-F068-4E9F-836F-E0E6DF00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041-1950-47C8-964E-741A2FD4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766-6B38-428A-BD2A-D733E317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195-509B-43F4-BB05-2663D83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F77-C49D-4ED4-A167-662394A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094-0DAF-409D-B56D-8901C87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FF9-B647-4099-9C86-6A903D8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76CCD-4091-419D-B262-64ED17C72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