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439788"/>
        <c:axId val="49244383"/>
      </c:barChart>
      <c:catAx>
        <c:axId val="454397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44383"/>
        <c:crosses val="autoZero"/>
        <c:auto val="1"/>
        <c:lblAlgn val="ctr"/>
        <c:lblOffset val="100"/>
        <c:noMultiLvlLbl val="0"/>
      </c:catAx>
      <c:valAx>
        <c:axId val="492443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397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8B4-B75C-4EC9-8586-8CAC0313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9AA7-0E9C-46DC-9620-8281A301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DE3B-3253-4ED0-8422-5A64B282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5F0-6C3E-4967-8D39-A4633B9C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D57A-AA01-486B-88F6-C9407739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B12E-F5D3-4BF1-80D4-0CB9291B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E72F-0F21-4996-B121-1622C40D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9EA-8488-415B-B4AD-57FB8F0A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E2B7-0B0C-40A5-AF6F-048C3166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1542-B0FC-42C2-A0E0-A60EA2CF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9659-8227-433D-A98A-55515760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F0E9-1443-49B2-A0F1-AE281A70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D64A4-D91D-4BAF-9B9E-95A0D8A25F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