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2597"/>
        <c:axId val="61958011"/>
      </c:barChart>
      <c:catAx>
        <c:axId val="1062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58011"/>
        <c:crosses val="autoZero"/>
        <c:auto val="1"/>
        <c:lblAlgn val="ctr"/>
        <c:lblOffset val="100"/>
        <c:noMultiLvlLbl val="0"/>
      </c:catAx>
      <c:valAx>
        <c:axId val="61958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2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E80-49F6-487B-A15D-53D383BF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5A3-789D-434A-B68A-5F8BB39F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EAB-A5A4-48A6-974E-0F97C23A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C4B-AC38-42C0-9E17-98FB8680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C13-29CE-48CD-9786-9A8B592F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91B-285C-4784-8B0E-5055AE7C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26C-D9AC-49F8-8CB7-8022957E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CC3-0C3D-4F58-84FB-666B09C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63B-984F-4BC5-B40E-789F3387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FDD-0256-4E21-9D52-879BB5D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E59-B45E-4B5E-AE9B-D2184F74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0F5-F232-4EB8-AC14-A94C7C96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68F30-EB6E-4AEF-BBA4-42D82BC4B9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