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50829"/>
        <c:axId val="685660"/>
      </c:barChart>
      <c:catAx>
        <c:axId val="23250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660"/>
        <c:crosses val="autoZero"/>
        <c:auto val="1"/>
        <c:lblAlgn val="ctr"/>
        <c:lblOffset val="100"/>
        <c:noMultiLvlLbl val="0"/>
      </c:catAx>
      <c:valAx>
        <c:axId val="685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50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AF3F-FE95-4C5F-99BC-030A160B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80E-86C1-4AFC-A5AC-1A337183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06C-FF87-4D71-9167-1324FD93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4F0-DE0C-4269-B3AA-A09BE19B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1DA-935C-437B-A2A1-6AC752D2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7EDA-D3A6-4809-92B2-34D2A5D7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A072-261B-40FB-8695-1ED479D6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C38C-256E-4B6D-B58D-1BBCA865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364-6156-4D4C-955E-A200352A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840-2399-4EA5-A8DD-3E14DFEF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2FC-3BE8-4B89-9D2C-82A18FD1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C26-894E-4496-B13C-FF6E74AE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7B689-787B-49C1-8EF8-152AE0D164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