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46850"/>
        <c:axId val="76166704"/>
      </c:barChart>
      <c:catAx>
        <c:axId val="94846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6704"/>
        <c:crosses val="autoZero"/>
        <c:auto val="1"/>
        <c:lblAlgn val="ctr"/>
        <c:lblOffset val="100"/>
        <c:noMultiLvlLbl val="0"/>
      </c:catAx>
      <c:valAx>
        <c:axId val="76166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46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A5D-DE0E-4F30-B491-3A53A837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5F9-4A53-415F-BD2C-D71EC7D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DC5-DF01-43FB-B888-82F70963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023-5E1C-49E0-B24D-E41CFCE7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2FE-C162-4D63-98EE-EFDC0A68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3C5-F3D6-458B-B1F1-014A68DF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6AD-F839-474F-9895-B6D6052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5F9-E852-4180-A5F0-69FC873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AC2-41A3-4F17-80CE-0EB057F4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B82-4793-442B-8956-04F416A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AEC-C138-420B-B279-AE5CDD2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50A-1FFE-4FF5-9BCB-5F52F625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89632-9F7D-4FA0-A6BD-E8CA0C93A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