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87003"/>
        <c:axId val="67819490"/>
      </c:barChart>
      <c:catAx>
        <c:axId val="84587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19490"/>
        <c:crosses val="autoZero"/>
        <c:auto val="1"/>
        <c:lblAlgn val="ctr"/>
        <c:lblOffset val="100"/>
        <c:noMultiLvlLbl val="0"/>
      </c:catAx>
      <c:valAx>
        <c:axId val="67819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87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802-68E4-412C-8276-29B19BE5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5D7-25CA-429C-A30B-284A407D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727-F383-4BBA-AC17-7FA39FB5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450-7E1B-45C9-A2C8-ECC70DBC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948-ECA9-42FF-B25A-86DB92D5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4A5-AC0E-40E1-8F15-DB21B6F3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30F-ACEC-401C-AFBA-68E7BEA2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63E-65E0-4F93-B8CC-749C291C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AEE-7D9C-4EDB-A8EB-74D4503C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E29-4BEA-44DD-83DE-6EAE1136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2E0-31CD-4742-9212-4582392C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32A-828C-4F9C-97D4-0EDAB595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56E8E-841A-414E-B738-C9B8625557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