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31459"/>
        <c:axId val="80911265"/>
      </c:barChart>
      <c:catAx>
        <c:axId val="31431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11265"/>
        <c:crosses val="autoZero"/>
        <c:auto val="1"/>
        <c:lblAlgn val="ctr"/>
        <c:lblOffset val="100"/>
        <c:noMultiLvlLbl val="0"/>
      </c:catAx>
      <c:valAx>
        <c:axId val="80911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1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E449-4F90-4FC2-9337-102A877F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A6F-89C0-427D-8F68-C62CFD36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170-C9EF-4140-979F-B6A29315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903-CD71-478F-8435-387B68FD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BBE-C328-477C-A6A2-5F6CFE77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352-D8EF-4201-8E07-0E00B1F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D1F-26B5-4593-B953-6A29A7F1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EEC-ED7C-466E-83B3-42DBFE4E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EA4-225D-4D46-8E5D-558A3F62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EF3-EFAA-4167-A1C5-7F7B7096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A36-293C-4933-8ECD-0EB1363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942-1C44-49ED-A8C8-B91C1D6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51498-AFC9-456F-B7E2-3DF024EFCA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