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710"/>
        <c:axId val="6580311"/>
      </c:barChart>
      <c:catAx>
        <c:axId val="5843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311"/>
        <c:crosses val="autoZero"/>
        <c:auto val="1"/>
        <c:lblAlgn val="ctr"/>
        <c:lblOffset val="100"/>
        <c:noMultiLvlLbl val="0"/>
      </c:catAx>
      <c:valAx>
        <c:axId val="6580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783-2911-4205-BD5C-676B696F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55D-E491-4084-801D-213EBCE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5F7-0CAE-40B6-9497-C7C35B11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5AF-34E7-4783-8C78-480A3B0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C83-24A4-4AAD-92DB-0485734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7D2-89B7-4748-9BAA-7B086AC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5F1-4E22-4C03-807B-396E3308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10B-8882-4403-9FE6-F06C154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B94-FCBB-4B01-AE3E-0DA06067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406-CDE3-42E1-970F-D8AFD0E0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2DE-34FA-4DEF-BD9E-BD7A296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655-EEDA-497C-A529-540831C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2D12-38C6-4D6D-91B2-4209B7FE3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