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13534"/>
        <c:axId val="59508676"/>
      </c:barChart>
      <c:catAx>
        <c:axId val="36713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08676"/>
        <c:crosses val="autoZero"/>
        <c:auto val="1"/>
        <c:lblAlgn val="ctr"/>
        <c:lblOffset val="100"/>
        <c:noMultiLvlLbl val="0"/>
      </c:catAx>
      <c:valAx>
        <c:axId val="59508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13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E82-7BFA-44E2-9215-A2B96DA5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653-2EB3-4932-9554-D20EDB94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CB5-BA57-4089-8940-5CE3B643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841-5DA3-4AC3-92A3-34CF28CA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93B-5D38-478A-BF26-0D67A1BF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283-72A1-43BA-9048-E92B1449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D3E-B0BF-4A27-9874-0C81B0A9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5BB-B8F5-405A-BF57-DF6886A9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F2A-DCE3-4C8A-B551-312B894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C0C-D1F5-4839-86A3-C27B95B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D63-F7DE-447F-877D-489DD273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5C6-1F2F-425C-B5F7-D8870F7F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B6AF1-20C8-477C-ACB0-101DB0F764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