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9146"/>
        <c:axId val="111381"/>
      </c:barChart>
      <c:catAx>
        <c:axId val="2969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381"/>
        <c:crosses val="autoZero"/>
        <c:auto val="1"/>
        <c:lblAlgn val="ctr"/>
        <c:lblOffset val="100"/>
        <c:noMultiLvlLbl val="0"/>
      </c:catAx>
      <c:valAx>
        <c:axId val="111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9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A7D-C58C-45F0-98E2-9B066D05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04B-9E51-4952-9F67-61285A48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DE7-8A78-47DE-8F5C-603F04B2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7EC-60BF-4191-8E7F-F6F6546F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6B0-7386-468A-9631-F5C0BCB6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A6C-F495-4BEE-A9E6-C471A482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9C4-161E-4699-979F-0930F987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828-922A-4F6F-A2EC-37CD4B4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1D5-3307-4C28-A572-43240801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3AF-055B-464A-AA52-E6A9E47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EED-8C68-44D7-AF89-26726EE3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306-79CD-413E-91DA-1A0197DF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C5486-2C32-4B15-A4D0-B50B2EFAA4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