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6581"/>
        <c:axId val="92559143"/>
      </c:barChart>
      <c:catAx>
        <c:axId val="9136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59143"/>
        <c:crosses val="autoZero"/>
        <c:auto val="1"/>
        <c:lblAlgn val="ctr"/>
        <c:lblOffset val="100"/>
        <c:noMultiLvlLbl val="0"/>
      </c:catAx>
      <c:valAx>
        <c:axId val="92559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6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715-0A47-4297-AD90-046A51AB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DD7-4FFE-41C3-A2A3-67763FCD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0FF-7FD3-4260-92AB-AFF2EAFB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D80-2B2B-487F-A302-A69F16E7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903-9FE9-42D5-8E38-223D6589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0CA-6E17-47FF-ABF0-7605FABE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48A-0179-40AD-8EEE-FCC936C4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8D6-7A16-4B72-88DE-40075A73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6D1-4131-4FE1-9D1F-7DD86BC7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138-D843-472A-93A1-330A5C38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AB3-B6FC-4FA8-9150-3F1BEB42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547-440C-4182-B374-BFB34031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715E0-A8AE-487A-BBBA-3F1D681624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