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4414"/>
        <c:axId val="48989916"/>
      </c:barChart>
      <c:catAx>
        <c:axId val="90594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89916"/>
        <c:crosses val="autoZero"/>
        <c:auto val="1"/>
        <c:lblAlgn val="ctr"/>
        <c:lblOffset val="100"/>
        <c:noMultiLvlLbl val="0"/>
      </c:catAx>
      <c:valAx>
        <c:axId val="48989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4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D8E-625B-439F-AD2A-25CDC3B7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630-AABF-4AEE-83D8-6DD63E5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C84-D5C7-4829-97B3-B48664B2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046C-7A6F-4E7D-84EC-FF93B7E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23E-A0BA-4725-A626-227266E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872-8983-4A8D-B8C6-CDF3EAD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960-88D5-41B7-96B2-812CDC7D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ED1-B27C-4809-B60D-A2447FAA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185-7846-41FB-B39B-FBC2BB4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36A-BC04-4949-AC3E-81022BF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E66-A9EE-4862-8F56-795B701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F20-7AB1-432D-AA22-E9E8B083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A592-21AC-4CE5-9DBA-799E6BC8BB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