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94077"/>
        <c:axId val="42163500"/>
      </c:barChart>
      <c:catAx>
        <c:axId val="65094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63500"/>
        <c:crosses val="autoZero"/>
        <c:auto val="1"/>
        <c:lblAlgn val="ctr"/>
        <c:lblOffset val="100"/>
        <c:noMultiLvlLbl val="0"/>
      </c:catAx>
      <c:valAx>
        <c:axId val="42163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94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2D0-CECF-43F6-A205-546945AD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2DE-7423-4403-8DDA-7C808FD7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B9E-2F53-4967-9DE5-375AB26F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725-C0CC-4B84-8848-9466F80F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0209-C1BD-4F6F-B9C4-2A6DD47D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93A-2A0F-4472-8591-1113401D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D98-FB5D-42A2-93B0-236DFE45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321-3A97-4968-A86C-4EB43192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BD8-0D5A-42D7-8EC8-D4C4EFDC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1CEE-4D69-42F7-B52D-6C13BAAC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654-9929-48DC-8AA6-B6E77E6D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E7E-33CF-4CE7-9756-90153DD1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C4B72-581A-4EFA-ACF3-33288C786A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