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98045"/>
        <c:axId val="13471653"/>
      </c:barChart>
      <c:catAx>
        <c:axId val="17598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71653"/>
        <c:crosses val="autoZero"/>
        <c:auto val="1"/>
        <c:lblAlgn val="ctr"/>
        <c:lblOffset val="100"/>
        <c:noMultiLvlLbl val="0"/>
      </c:catAx>
      <c:valAx>
        <c:axId val="13471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98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738-C98E-4406-841C-D067C475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B6E-BBB4-4961-8D2E-71F6F2EF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3E0-5B63-4610-8A31-FF0CDE4B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B81-813C-4D25-A608-7223514C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086-BA4B-47B5-BCD7-F7C96974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C4C-1E0B-46A7-8E15-05238054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D28-A62E-43F6-ACAF-C8064ABF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1B9-8D68-4C96-8093-A1E22843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AC4-FFCB-4F9B-8F65-5C8F1BD4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CF4-D8F2-4D65-852F-0BE9A175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767-37A4-42E2-85AD-0C5EEBC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A9B-CD96-4B1F-A4DC-879637B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55650-5729-470F-9F7E-2763F7F89F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