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39275"/>
        <c:axId val="87114606"/>
      </c:barChart>
      <c:catAx>
        <c:axId val="29639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14606"/>
        <c:crosses val="autoZero"/>
        <c:auto val="1"/>
        <c:lblAlgn val="ctr"/>
        <c:lblOffset val="100"/>
        <c:noMultiLvlLbl val="0"/>
      </c:catAx>
      <c:valAx>
        <c:axId val="87114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39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C7D-6248-403A-B9EA-9E1471DB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720-61F1-43F9-8519-C263C4F6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766-709B-41D2-880E-83434730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260-37F8-47AA-94F7-AF3FD0E3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367-2ACF-43F5-9EE7-2448C1AB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5BF-64D2-4A26-9823-066E4D1D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5F0-A10D-4B02-AACE-72763815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375-8BC0-4CF9-B6A2-1B8E0A5C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7D6-9CAE-4C80-8ACF-CE228788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A94-D32D-4598-8F1B-054627C9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7DE-C280-4030-AAFA-FAA8BBF8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785-6CB3-48A1-8B7D-2100D36E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C5CAB-DD9C-4E85-B80A-C15885E7C7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