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36024"/>
        <c:axId val="64195720"/>
      </c:barChart>
      <c:catAx>
        <c:axId val="58536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95720"/>
        <c:crosses val="autoZero"/>
        <c:auto val="1"/>
        <c:lblAlgn val="ctr"/>
        <c:lblOffset val="100"/>
        <c:noMultiLvlLbl val="0"/>
      </c:catAx>
      <c:valAx>
        <c:axId val="64195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36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ECB-2003-4EEF-9A11-52ECC2A0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B43-7382-42C8-9F27-18B529E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EBE-B75D-4417-A680-BCE362E1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44E-EF07-4A58-8922-6538F432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959-4AD4-4205-9019-3B7F213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701-B097-4E7C-810F-B9B056E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9B5-ECDA-4CAC-BD3B-DC146F40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729-D3D5-4D18-8ED3-F9139F52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9A7-FDB6-4F5A-9D67-6B417528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581-67BE-48C6-9323-54F0B39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B36A-53C8-4F2B-8533-F928AA5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6B6-039F-4245-A12C-6487B0C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75BFC-DEE9-4AF7-808E-974109029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