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75129"/>
        <c:axId val="57540789"/>
      </c:barChart>
      <c:catAx>
        <c:axId val="93375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40789"/>
        <c:crosses val="autoZero"/>
        <c:auto val="1"/>
        <c:lblAlgn val="ctr"/>
        <c:lblOffset val="100"/>
        <c:noMultiLvlLbl val="0"/>
      </c:catAx>
      <c:valAx>
        <c:axId val="57540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75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79B-6D4C-498A-9AEA-D28CC4DE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E80-DF59-4453-B040-B72AB1D7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9AC-9B85-4C4B-983F-1CEEA27B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29C-1FEE-47A1-9B23-593A3681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DEF-3238-40F3-B951-6C6A9162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284-C7F6-41F4-A368-62D1538C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CCA-50D0-4F90-BB4B-23B8AE91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6BD-0F5D-408C-8D6E-F020ED30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840-8440-427D-B1D8-C9103D8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10D-4388-4FF1-AE62-D7E5F7FD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AA4-E030-4788-8D3B-908EDF7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2A2-D53B-42C1-A82C-A2F51EE4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A82CC-9ECF-49A7-833D-9CDC95A5AA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