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45973"/>
        <c:axId val="75070366"/>
      </c:barChart>
      <c:catAx>
        <c:axId val="45545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0366"/>
        <c:crosses val="autoZero"/>
        <c:auto val="1"/>
        <c:lblAlgn val="ctr"/>
        <c:lblOffset val="100"/>
        <c:noMultiLvlLbl val="0"/>
      </c:catAx>
      <c:valAx>
        <c:axId val="75070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45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338-3EB7-4670-AAC9-1B834D31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9FF-981A-4A6B-A5E1-2E5928FD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7A8-9922-472D-8C98-94A9F631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34B-906F-4B28-89E8-FBB9786F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AAC-A470-4FE7-A273-CD8577FB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135-2323-472C-8AF2-E45CDF1B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8CE-AC77-44B9-8A04-0C775CFB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386-E0B5-4DFB-AFCC-034ED05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C93-7D4E-4F4A-A2C5-A9E9A837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05D-F9FF-4135-B812-6BB5D370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DD7-8E1C-4775-B10B-F380EAC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71A-CE86-4D4A-BCC2-BEE85844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48328-28C8-44E5-9052-ABF27CC58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