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8599"/>
        <c:axId val="19528997"/>
      </c:barChart>
      <c:catAx>
        <c:axId val="7498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28997"/>
        <c:crosses val="autoZero"/>
        <c:auto val="1"/>
        <c:lblAlgn val="ctr"/>
        <c:lblOffset val="100"/>
        <c:noMultiLvlLbl val="0"/>
      </c:catAx>
      <c:valAx>
        <c:axId val="19528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8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8B2-2EFB-4B2A-84CB-5A58D461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F70-4D05-4FE0-A148-E80C5C59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484-99C4-499E-A386-C0D3AF13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C8F-A27B-4630-8A5E-6B1E82E2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23B-0AEB-4F5C-8E12-97039507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DAE-95AA-4CBF-8486-260612B9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E67-5CC3-4DC6-AF70-DB2415B6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8B9-AF2A-4F64-88C5-93D7F7DF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D99-23A4-433B-A337-C64F10F3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232-9D7E-4D1E-9438-BDD3419F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385-42C5-4051-B31E-315B8EF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33E-C06E-431D-BEF0-21AE0F8C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04F85-C646-4282-AA2E-8078584FC8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