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69206"/>
        <c:axId val="32809325"/>
      </c:barChart>
      <c:catAx>
        <c:axId val="74169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09325"/>
        <c:crosses val="autoZero"/>
        <c:auto val="1"/>
        <c:lblAlgn val="ctr"/>
        <c:lblOffset val="100"/>
        <c:noMultiLvlLbl val="0"/>
      </c:catAx>
      <c:valAx>
        <c:axId val="32809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69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778-28B4-4B32-BFE6-96F1AB38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BA0-C64C-4FCB-A821-3415EDF5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8A2-55EA-4E70-9AAF-2FC75A9F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20F-3942-4CB1-B1AA-07556BE1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64F-FCF1-4843-898E-F4B91B9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903-2358-4B93-8F6F-50C2B8DA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AAA-34EA-4232-B400-9A8BDBF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FD3-C46C-40FB-A97E-430620D9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302-31FB-481D-B480-B91792A3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D1F-CE5F-42F1-93C4-081CDB14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75C-1A18-4862-A255-FA530A0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F86-8E3E-4365-B1EC-747AEDB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5779-4C02-453E-BD34-54309B3C3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