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21389"/>
        <c:axId val="36762320"/>
      </c:barChart>
      <c:catAx>
        <c:axId val="74621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62320"/>
        <c:crosses val="autoZero"/>
        <c:auto val="1"/>
        <c:lblAlgn val="ctr"/>
        <c:lblOffset val="100"/>
        <c:noMultiLvlLbl val="0"/>
      </c:catAx>
      <c:valAx>
        <c:axId val="36762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1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FDA-ADCF-4D31-942E-03149B7E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535-915B-45B4-9844-1010748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588-18C3-4E31-8239-71C09C93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F6C-9A9D-4941-929D-A8EBEDCE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BA1-CB69-4153-8A3C-BE3D71E9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024-22E0-4A65-8B45-C4A7811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22F-F3FF-4421-BB3B-0972BDE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361-E0E1-4AF3-83A6-0E3B4FE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096-D64E-472E-ACBA-FB395625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96D-2531-40AF-8FD1-D3AD0F3D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92B-5FC8-4508-9D89-26D5D40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072-B532-46E3-8209-AB37CE0E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F874B-F1FA-4072-83CE-525043A8B6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