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32179"/>
        <c:axId val="82836047"/>
      </c:barChart>
      <c:catAx>
        <c:axId val="907321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36047"/>
        <c:crosses val="autoZero"/>
        <c:auto val="1"/>
        <c:lblAlgn val="ctr"/>
        <c:lblOffset val="100"/>
        <c:noMultiLvlLbl val="0"/>
      </c:catAx>
      <c:valAx>
        <c:axId val="828360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321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F185-5F0D-43E8-AB28-E52F4C11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37A-1A6D-4915-A80E-1C724B46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4F7D-FEF3-4835-97BF-16D0DA0C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5D56-F0BE-480F-9D98-647EC896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F89-B81F-4E9A-ACAA-565C535C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9C72-27A9-4C42-A701-10A5B034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B4B-4A26-4384-A01F-FB25E341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EFF8-6134-40F7-83F1-2046017A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80BF-5166-4E30-94F2-E1475EBF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56B3-E3A6-44DA-B023-B66C15C3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D3E-E132-4F9C-BEF1-44625CDE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2D0D-06D5-4C27-8493-38B9349B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8D3D5-D8A7-4A90-AA89-D4C4552724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