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845353"/>
        <c:axId val="45140566"/>
      </c:barChart>
      <c:catAx>
        <c:axId val="918453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40566"/>
        <c:crosses val="autoZero"/>
        <c:auto val="1"/>
        <c:lblAlgn val="ctr"/>
        <c:lblOffset val="100"/>
        <c:noMultiLvlLbl val="0"/>
      </c:catAx>
      <c:valAx>
        <c:axId val="451405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453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CE75-298C-4493-B499-B1A3DFC4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FD77-D7D2-4E8A-A729-BB8F9095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E656-0E74-43B8-B3E8-E1522F8F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C211-460A-4F61-8AA5-25E6DFCD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9037-2035-41D6-B817-A3746AF4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2F48-935C-4562-9D40-3C4FC550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A363-F916-4B88-B554-053FC6AD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006-98EA-4F93-8930-DB136C97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8AAD-1360-48B1-8113-24505F12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767B-846F-42A8-BB71-A10AFB59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EA38-3847-434D-A369-29FEC05C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8822-851F-4E3F-803F-EA721F5F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7A824-E510-441B-B244-AEFCCA1083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