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32665"/>
        <c:axId val="46773092"/>
      </c:barChart>
      <c:catAx>
        <c:axId val="16832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73092"/>
        <c:crosses val="autoZero"/>
        <c:auto val="1"/>
        <c:lblAlgn val="ctr"/>
        <c:lblOffset val="100"/>
        <c:noMultiLvlLbl val="0"/>
      </c:catAx>
      <c:valAx>
        <c:axId val="46773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32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75F-049D-4A39-8614-94BFBE049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137F-2A05-41DD-8F1C-2D62BB22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AA90-A512-4CD7-B800-36FD2933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2B63-B286-4E9F-BF85-F535D7FE2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7001-372F-442E-917D-9482F290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92A-5511-485C-AEAB-BD556190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2C5-1A50-491D-A8CD-0088625C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6484-8FBB-4ED3-B588-AF6C558F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C763-6D62-43E5-8195-A41584BE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2677-386C-4C04-ACD6-67BF5E81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A46-E51C-4845-9CCB-27300D03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A374-66CA-405A-AAE3-45AF256F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50A7F-26C4-4F58-8875-5D1C7F24E7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