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37292"/>
        <c:axId val="30775427"/>
      </c:barChart>
      <c:catAx>
        <c:axId val="48737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75427"/>
        <c:crosses val="autoZero"/>
        <c:auto val="1"/>
        <c:lblAlgn val="ctr"/>
        <c:lblOffset val="100"/>
        <c:noMultiLvlLbl val="0"/>
      </c:catAx>
      <c:valAx>
        <c:axId val="30775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37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1A2D-F0C8-463A-88D2-E9C05CDD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CF40-3382-4E25-9516-6E2CA5CC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99F3-2064-407F-9F33-8B8D5BCB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6DD5-212D-4D0C-86B7-C144C0C7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EA22-D2EF-4795-B922-FA669C73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B8C7-8C0B-4C6F-AA80-F3C7244B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DA80-A140-425D-AC99-A8F6EF8E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D5AD-D1FC-44F6-8744-374D42B4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A3C0-C69F-4A1C-8696-06EF6E4F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12E4-2703-4DD0-A763-C7419ECE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DE52-8270-4E96-A812-0E91FE76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43D0-BB44-4B5F-80A4-15599DB7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C9F34-3451-44D8-B868-5DFFCD8605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