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56918"/>
        <c:axId val="9080282"/>
      </c:barChart>
      <c:catAx>
        <c:axId val="11056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0282"/>
        <c:crosses val="autoZero"/>
        <c:auto val="1"/>
        <c:lblAlgn val="ctr"/>
        <c:lblOffset val="100"/>
        <c:noMultiLvlLbl val="0"/>
      </c:catAx>
      <c:valAx>
        <c:axId val="90802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56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4ED-1421-4D6C-A7E7-BD6391CB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940-A6D3-40FE-8F56-147F6FD1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CD2-27FC-4DAC-9585-58336826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559-62EF-49F2-91DA-9A131720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ADE1-BE6B-438B-9E27-5BBEDD18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ADF5-0A95-43AA-9DCF-CF992C18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6CB-5751-4ACC-890D-CC868323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DF7-9EBE-4708-B9DB-1C6087DE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7954-7380-4414-B3C0-A5739657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4A1-A411-4B85-82BF-2B599898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0EF-7B7B-431D-9ED1-BE1185F2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3FB9-74F1-46EE-8179-C2F5D58D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7FD19-4848-4928-9959-AD24249A40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