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93565"/>
        <c:axId val="2349001"/>
      </c:barChart>
      <c:catAx>
        <c:axId val="275935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49001"/>
        <c:crosses val="autoZero"/>
        <c:auto val="1"/>
        <c:lblAlgn val="ctr"/>
        <c:lblOffset val="100"/>
        <c:noMultiLvlLbl val="0"/>
      </c:catAx>
      <c:valAx>
        <c:axId val="23490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935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C64D-5262-4C78-99D9-62186163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CCFB-984A-4EB7-9BEB-822C48AA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28E-728F-4532-9EAB-8F8390EA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533E-D215-407B-B56A-A68BDA46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3AE-45ED-4CBB-829A-A52FEFD7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DC4-E760-408C-8D58-CFD63D5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44D-D323-4EC2-A9FD-33422E056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9CA4-34C0-4CFE-B9A0-E8518DAF0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C8F-C2AC-423C-B433-6B6BD141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97A2-E9BD-4E0B-A59C-3039A2D5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231-2DA0-4A46-990B-D10BBBE8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3F88-A518-43BD-AF80-91C63165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C47EA-1F73-4AAB-B2A4-02EF64217D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