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5293"/>
        <c:axId val="5837648"/>
      </c:barChart>
      <c:catAx>
        <c:axId val="84325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7648"/>
        <c:crosses val="autoZero"/>
        <c:auto val="1"/>
        <c:lblAlgn val="ctr"/>
        <c:lblOffset val="100"/>
        <c:noMultiLvlLbl val="0"/>
      </c:catAx>
      <c:valAx>
        <c:axId val="5837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5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447-5094-4876-88D1-C54821C3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5A0-E7D0-4150-88F2-E66CEC9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36E-1A4A-40D0-982F-71C1BFE5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4F0-633B-457E-8F50-44433D42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780-ECAD-457C-BE1E-C9E13C16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613-22F6-4168-9531-33C631B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016-0C2B-4CDA-A50C-BA7502C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1B1-5262-46D3-88C9-7FF42DB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55E-2B97-4A54-95E4-C26D1B9D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B05-8160-41D5-9839-6B71C59D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E34-6223-4FE1-94D7-38CDCC5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62A-2F2B-442B-8756-16E8728B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EA932-3A5D-4721-83BB-28F3A6BA7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